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E3B-CCBD-4041-BA5F-6388BB50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EE1-9A9A-4E9E-AD31-B29E9F5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3B1-E9EF-469B-A3A6-4B9B84C3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2EF-8E49-415D-B2A9-9E79C707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223-931E-456C-ACF2-6617DD5E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603-56E3-4A65-9CC6-0CE4FB6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A3C-A10B-471C-98F4-EFEBF940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68F-0EE9-4D5B-A743-4124064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449-6810-4E2D-B2CA-116667C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5A3-E9BE-4DFA-A770-7574C56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42D-D8E3-4087-9AF7-931C8E6A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86A-4FAE-47A6-B3C2-EE13C89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768-7F88-40DB-AC43-5A68434CE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verbe « AVOIR 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To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hat are the 6 Subject Pronou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/El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/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You must conjugate verb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rammar Words to K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finitive- the unconjugated verb (to ha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jugate- I have, you have, he/she h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YOU DON’T SAY  I to have or You to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voir | to h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his very important verb is irregu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hat does it mean to be an irregular ver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 irregular verb is one that doesn’t follow the normal rules of conju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t’s conjugate our first verb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i </a:t>
            </a:r>
            <a:r>
              <a:rPr b="1" lang="fr-FR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J’ai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Nous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v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u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Vous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v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/elle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s/Elles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LI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VOIR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oup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Je/J’________ (avoir) une gom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Nous _______ (avoir) des livr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lles ________ (avoir) treize a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Tu __________ (avoir) un ordinateur et un styl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Il ___________ (avoir) douze cray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Vous ________ (avoir) une feuille de papi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7:36:31Z</dcterms:created>
  <dc:creator>Robbie</dc:creator>
  <dc:description/>
  <dc:language>en-US</dc:language>
  <cp:lastModifiedBy>Robbie</cp:lastModifiedBy>
  <dcterms:modified xsi:type="dcterms:W3CDTF">2012-09-09T17:55:19Z</dcterms:modified>
  <cp:revision>1</cp:revision>
  <dc:subject/>
  <dc:title>Le verbe « AVOIR » </dc:title>
</cp:coreProperties>
</file>